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media/image5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946FA-2604-4ACB-B5CB-1D401FEBB0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374B4-7D8D-4290-8553-7CEF3F405E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9DB66-924A-4A43-9CBE-F5A628B714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3B001-93F1-41E9-9792-BAC38DDD13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B4CC72-BE40-46BD-899E-E47EBB7F0FC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224746-E73F-4CE1-9194-EDC2AC1B48C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7D6B9D-8660-444B-BA66-860AAD853F2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8747C2-CC1C-41EE-A836-FACDF6D816E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72EDB2-3FDE-454F-82C9-327AB40895A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CDA791-1D73-4261-83F3-07F607F54BB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6BCCAD-B6F0-47CE-BF80-4B49AB0F654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851DD-B187-4231-8181-398583D168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4D10D1-139C-478B-81BD-443844C5186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777E3-6122-41EE-8A83-A8881158675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27581B-ACED-42FE-BE22-D92D3DFD159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DEDBA3-438B-441C-ACB9-08AA0366413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1F9F73-5A96-46DB-8CC9-753FAE71FB4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BDC7C5-95E9-4107-85B9-15D7B3C3D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82EE52-8686-4D4F-B02C-7ABEC7733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B00B0C-DFAD-4D25-94AD-839A655DD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3F98A4-0DE6-4608-A4B2-0B073DED6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B3412D-0C02-48A6-B036-B1AB8B01D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1275D-F186-4E72-BB67-558E588147E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7710A4-B886-42E5-A42E-BD97F60D7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0C4CC7-9C0B-4118-B831-955221D6F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E918AB-9A8A-4645-A3D4-431E3AA2E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533AD8-FFA8-44F4-8D89-E0705BFAA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ABF05E-26F8-47BA-92D3-875D181A2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B04369-B5E8-466A-B1A2-7D93964C4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47115E-DAEB-4EC3-BD50-F1C2228B2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26E42-598B-4F0B-B6F9-FD4DD4E625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5E2F8-194C-41C1-B243-81642E8B41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DBDC4-CECA-4DFB-B347-79D400F16A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03B48-7C9D-434E-A627-4FDBEBB18E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56994-9E68-428E-AAA3-B357418E41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67EE3-F009-49A8-B2AE-757BA851D7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57120" y="137880"/>
            <a:ext cx="7886520" cy="5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txBody>
          <a:bodyPr lIns="36000" rIns="36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GP創英角ｺﾞｼｯｸUB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4320" y="8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1" marL="743040" indent="-285840">
              <a:spcBef>
                <a:spcPts val="700"/>
              </a:spcBef>
              <a:buClr>
                <a:srgbClr val="ff66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2" marL="1143000" indent="-228600">
              <a:spcBef>
                <a:spcPts val="700"/>
              </a:spcBef>
              <a:buClr>
                <a:srgbClr val="9696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HGP創英角ｺﾞｼｯｸU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HGP創英角ｺﾞｼｯｸUB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HGP創英角ｺﾞｼｯｸUB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HGP創英角ｺﾞｼｯｸUB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62640" y="6500520"/>
            <a:ext cx="9810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66"/>
                </a:solidFill>
                <a:latin typeface="HGP創英角ｺﾞｼｯｸUB"/>
                <a:ea typeface="HGP創英角ｺﾞｼｯｸUB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5D68C-30A0-449A-ACE0-1076EC3677B4}" type="slidenum">
              <a:rPr b="0" lang="en-US" sz="1600" spc="-1" strike="noStrike">
                <a:solidFill>
                  <a:srgbClr val="000066"/>
                </a:solidFill>
                <a:latin typeface="HGP創英角ｺﾞｼｯｸUB"/>
                <a:ea typeface="HGP創英角ｺﾞｼｯｸUB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128400" y="6553080"/>
            <a:ext cx="28321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0" tIns="128520" bIns="496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100" spc="-1" strike="noStrike">
                <a:solidFill>
                  <a:srgbClr val="000066"/>
                </a:solidFill>
                <a:latin typeface="HGP創英角ｺﾞｼｯｸUB"/>
                <a:ea typeface="HGP創英角ｺﾞｼｯｸUB"/>
              </a:rPr>
              <a:t>Copyright © 2008  NTT DATA Corpor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308720" y="60480"/>
            <a:ext cx="1835280" cy="2437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HGP創英角ｺﾞｼｯｸUB"/>
                <a:ea typeface="HGP創英角ｺﾞｼｯｸUB"/>
              </a:rPr>
              <a:t>秘密（関係者限り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368360"/>
            <a:ext cx="77724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HGP創英角ｺﾞｼｯｸUB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2"/>
          </p:nvPr>
        </p:nvSpPr>
        <p:spPr>
          <a:xfrm>
            <a:off x="7009920" y="6552720"/>
            <a:ext cx="2133720" cy="2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5E8CE-D429-45DC-A28B-AACF3A004423}" type="slidenum">
              <a:rPr b="0" lang="en-US" sz="14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227040" y="6642360"/>
            <a:ext cx="2733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rPr>
              <a:t>Copyright © 2008  NTT DATA Corpor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440" y="732240"/>
            <a:ext cx="1744560" cy="2437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HGP創英角ｺﾞｼｯｸUB"/>
                <a:ea typeface="HGP創英角ｺﾞｼｯｸUB"/>
              </a:rPr>
              <a:t>秘密（関係者限り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1A677-273E-472A-BDA5-801B39DA2B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609480" y="2357280"/>
          <a:ext cx="720720" cy="433440"/>
        </p:xfrm>
        <a:graphic>
          <a:graphicData uri="http://schemas.openxmlformats.org/drawingml/2006/table">
            <a:tbl>
              <a:tblPr/>
              <a:tblGrid>
                <a:gridCol w="182520"/>
                <a:gridCol w="181080"/>
                <a:gridCol w="174600"/>
                <a:gridCol w="182520"/>
              </a:tblGrid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4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2679840" y="3225960"/>
          <a:ext cx="576000" cy="561960"/>
        </p:xfrm>
        <a:graphic>
          <a:graphicData uri="http://schemas.openxmlformats.org/drawingml/2006/table">
            <a:tbl>
              <a:tblPr/>
              <a:tblGrid>
                <a:gridCol w="191880"/>
                <a:gridCol w="192240"/>
                <a:gridCol w="191880"/>
              </a:tblGrid>
              <a:tr h="137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</a:tr>
              <a:tr h="106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06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06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06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124" name=""/>
          <p:cNvSpPr/>
          <p:nvPr/>
        </p:nvSpPr>
        <p:spPr>
          <a:xfrm>
            <a:off x="586440" y="276228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対象テーブ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583000" y="3421080"/>
            <a:ext cx="7128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7" idx="2"/>
            <a:endCxn id="125" idx="1"/>
          </p:cNvCxnSpPr>
          <p:nvPr/>
        </p:nvCxnSpPr>
        <p:spPr>
          <a:xfrm flipH="1" rot="16200000">
            <a:off x="1673640" y="2548080"/>
            <a:ext cx="387720" cy="1431720"/>
          </a:xfrm>
          <a:prstGeom prst="curvedConnector2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2173680" y="371628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0000"/>
                </a:solidFill>
                <a:uFillTx/>
                <a:latin typeface="HGP創英角ｺﾞｼｯｸUB"/>
                <a:ea typeface="HGP創英角ｺﾞｼｯｸUB"/>
              </a:rPr>
              <a:t>操作ログ表に記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71640" y="3346560"/>
            <a:ext cx="915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INSE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UPD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DEL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2622600" y="2357280"/>
          <a:ext cx="720720" cy="433440"/>
        </p:xfrm>
        <a:graphic>
          <a:graphicData uri="http://schemas.openxmlformats.org/drawingml/2006/table">
            <a:tbl>
              <a:tblPr/>
              <a:tblGrid>
                <a:gridCol w="182520"/>
                <a:gridCol w="180720"/>
                <a:gridCol w="174600"/>
                <a:gridCol w="182880"/>
              </a:tblGrid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</a:tr>
              <a:tr h="144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</a:tr>
            </a:tbl>
          </a:graphicData>
        </a:graphic>
      </p:graphicFrame>
      <p:sp>
        <p:nvSpPr>
          <p:cNvPr id="131" name=""/>
          <p:cNvSpPr/>
          <p:nvPr/>
        </p:nvSpPr>
        <p:spPr>
          <a:xfrm>
            <a:off x="2602440" y="276372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作業テーブ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473120" y="2500200"/>
            <a:ext cx="716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554200" y="2500200"/>
            <a:ext cx="716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"/>
          <p:cNvCxnSpPr>
            <a:stCxn id="132" idx="3"/>
            <a:endCxn id="133" idx="1"/>
          </p:cNvCxnSpPr>
          <p:nvPr/>
        </p:nvCxnSpPr>
        <p:spPr>
          <a:xfrm>
            <a:off x="1544760" y="2536560"/>
            <a:ext cx="1009800" cy="360"/>
          </a:xfrm>
          <a:prstGeom prst="curvedConnector2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5" name=""/>
          <p:cNvSpPr/>
          <p:nvPr/>
        </p:nvSpPr>
        <p:spPr>
          <a:xfrm>
            <a:off x="1669320" y="25401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0000"/>
                </a:solidFill>
                <a:uFillTx/>
                <a:latin typeface="HGP創英角ｺﾞｼｯｸUB"/>
                <a:ea typeface="HGP創英角ｺﾞｼｯｸUB"/>
              </a:rPr>
              <a:t>並び替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17840" y="2502000"/>
            <a:ext cx="716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930920" y="2502000"/>
            <a:ext cx="7128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6" idx="3"/>
            <a:endCxn id="137" idx="1"/>
          </p:cNvCxnSpPr>
          <p:nvPr/>
        </p:nvCxnSpPr>
        <p:spPr>
          <a:xfrm>
            <a:off x="3489480" y="2538360"/>
            <a:ext cx="1441800" cy="360"/>
          </a:xfrm>
          <a:prstGeom prst="curvedConnector2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9" name=""/>
          <p:cNvSpPr/>
          <p:nvPr/>
        </p:nvSpPr>
        <p:spPr>
          <a:xfrm>
            <a:off x="3325680" y="3421080"/>
            <a:ext cx="716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0" name=""/>
          <p:cNvCxnSpPr>
            <a:stCxn id="139" idx="3"/>
            <a:endCxn id="141" idx="4"/>
          </p:cNvCxnSpPr>
          <p:nvPr/>
        </p:nvCxnSpPr>
        <p:spPr>
          <a:xfrm flipV="1">
            <a:off x="3397320" y="2646360"/>
            <a:ext cx="705240" cy="811440"/>
          </a:xfrm>
          <a:prstGeom prst="curvedConnector2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1" name=""/>
          <p:cNvSpPr/>
          <p:nvPr/>
        </p:nvSpPr>
        <p:spPr>
          <a:xfrm>
            <a:off x="3994200" y="2428920"/>
            <a:ext cx="216000" cy="217440"/>
          </a:xfrm>
          <a:prstGeom prst="ellipse">
            <a:avLst/>
          </a:prstGeom>
          <a:solidFill>
            <a:srgbClr val="ffcc99"/>
          </a:solidFill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282560" y="29163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0000"/>
                </a:solidFill>
                <a:uFillTx/>
                <a:latin typeface="HGP創英角ｺﾞｼｯｸUB"/>
                <a:ea typeface="HGP創英角ｺﾞｼｯｸUB"/>
              </a:rPr>
              <a:t>操作反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6154560" y="2357280"/>
          <a:ext cx="720720" cy="433440"/>
        </p:xfrm>
        <a:graphic>
          <a:graphicData uri="http://schemas.openxmlformats.org/drawingml/2006/table">
            <a:tbl>
              <a:tblPr/>
              <a:tblGrid>
                <a:gridCol w="182520"/>
                <a:gridCol w="181080"/>
                <a:gridCol w="174600"/>
                <a:gridCol w="182520"/>
              </a:tblGrid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4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144" name=""/>
          <p:cNvSpPr/>
          <p:nvPr/>
        </p:nvSpPr>
        <p:spPr>
          <a:xfrm>
            <a:off x="5342760" y="2828880"/>
            <a:ext cx="114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0000"/>
                </a:solidFill>
                <a:uFillTx/>
                <a:latin typeface="HGP創英角ｺﾞｼｯｸUB"/>
                <a:ea typeface="HGP創英角ｺﾞｼｯｸUB"/>
              </a:rPr>
              <a:t>テーブルを切り替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 flipH="1">
            <a:off x="7884720" y="2349360"/>
            <a:ext cx="722520" cy="1000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6" name=""/>
          <p:cNvGraphicFramePr/>
          <p:nvPr/>
        </p:nvGraphicFramePr>
        <p:xfrm>
          <a:off x="5002200" y="2357280"/>
          <a:ext cx="720720" cy="433440"/>
        </p:xfrm>
        <a:graphic>
          <a:graphicData uri="http://schemas.openxmlformats.org/drawingml/2006/table">
            <a:tbl>
              <a:tblPr/>
              <a:tblGrid>
                <a:gridCol w="182520"/>
                <a:gridCol w="180720"/>
                <a:gridCol w="174600"/>
                <a:gridCol w="182880"/>
              </a:tblGrid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</a:tr>
              <a:tr h="144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5794200" y="2502000"/>
            <a:ext cx="287640" cy="144360"/>
          </a:xfrm>
          <a:prstGeom prst="leftRightArrow">
            <a:avLst>
              <a:gd name="adj1" fmla="val 50000"/>
              <a:gd name="adj2" fmla="val 39666"/>
            </a:avLst>
          </a:prstGeom>
          <a:solidFill>
            <a:srgbClr val="80808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116000" y="2997360"/>
            <a:ext cx="71280" cy="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08000" y="765000"/>
            <a:ext cx="8856720" cy="14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pg_reorg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ツールは、テーブルを再編成し、</a:t>
            </a:r>
            <a:r>
              <a:rPr b="0" lang="ja-JP" sz="2400" spc="-1" strike="noStrike" u="sng">
                <a:solidFill>
                  <a:srgbClr val="0000ff"/>
                </a:solidFill>
                <a:uFillTx/>
                <a:latin typeface="HGP創英角ｺﾞｼｯｸUB"/>
                <a:ea typeface="HGP創英角ｺﾞｼｯｸUB"/>
              </a:rPr>
              <a:t>断片化を解消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しま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再編成処理の間も</a:t>
            </a:r>
            <a:r>
              <a:rPr b="0" lang="ja-JP" sz="2400" spc="-1" strike="noStrike" u="sng">
                <a:solidFill>
                  <a:srgbClr val="0000ff"/>
                </a:solidFill>
                <a:uFillTx/>
                <a:latin typeface="HGP創英角ｺﾞｼｯｸUB"/>
                <a:ea typeface="HGP創英角ｺﾞｼｯｸUB"/>
              </a:rPr>
              <a:t>参照</a:t>
            </a:r>
            <a:r>
              <a:rPr b="0" lang="ja-JP" sz="2400" spc="-1" strike="noStrike" u="sng">
                <a:solidFill>
                  <a:srgbClr val="0000ff"/>
                </a:solidFill>
                <a:uFillTx/>
                <a:latin typeface="HGP創英角ｺﾞｼｯｸUB"/>
                <a:ea typeface="HGP創英角ｺﾞｼｯｸUB"/>
              </a:rPr>
              <a:t>/</a:t>
            </a:r>
            <a:r>
              <a:rPr b="0" lang="ja-JP" sz="2400" spc="-1" strike="noStrike" u="sng">
                <a:solidFill>
                  <a:srgbClr val="0000ff"/>
                </a:solidFill>
                <a:uFillTx/>
                <a:latin typeface="HGP創英角ｺﾞｼｯｸUB"/>
                <a:ea typeface="HGP創英角ｺﾞｼｯｸUB"/>
              </a:rPr>
              <a:t>更新処理をブロックしない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ことが特徴で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24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年に一度のメンテナンスでも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DB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止めずに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24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時間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365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日運転が可能で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24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VACUUM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不足でテーブルが肥大化しても、サービスを止めずに回復でき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43280" y="3500280"/>
            <a:ext cx="1440000" cy="865440"/>
          </a:xfrm>
          <a:prstGeom prst="wedgeRoundRectCallout">
            <a:avLst>
              <a:gd name="adj1" fmla="val -50439"/>
              <a:gd name="adj2" fmla="val -79175"/>
              <a:gd name="adj3" fmla="val 16667"/>
            </a:avLst>
          </a:prstGeom>
          <a:solidFill>
            <a:srgbClr val="ffffcc"/>
          </a:solidFill>
          <a:ln w="126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差分を反映し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更新結果を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引き継ぎま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516720" y="3500280"/>
            <a:ext cx="1295280" cy="648000"/>
          </a:xfrm>
          <a:prstGeom prst="wedgeRoundRectCallout">
            <a:avLst>
              <a:gd name="adj1" fmla="val -89217"/>
              <a:gd name="adj2" fmla="val -104412"/>
              <a:gd name="adj3" fmla="val 16667"/>
            </a:avLst>
          </a:prstGeom>
          <a:solidFill>
            <a:srgbClr val="ffffcc"/>
          </a:solidFill>
          <a:ln w="126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切り替えは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一瞬で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957320" y="4508640"/>
          <a:ext cx="2685960" cy="1912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957320" y="4508640"/>
                    <a:ext cx="2685960" cy="191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2127960" y="4214880"/>
            <a:ext cx="199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再編成処理時間の比較 </a:t>
            </a:r>
            <a:r>
              <a:rPr b="0" lang="en-US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(</a:t>
            </a:r>
            <a:r>
              <a:rPr b="0" lang="zh-CN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テーブル</a:t>
            </a:r>
            <a:r>
              <a:rPr b="0" lang="en-US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2G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267440" y="616572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282920" y="4795920"/>
            <a:ext cx="1801800" cy="1225440"/>
          </a:xfrm>
          <a:prstGeom prst="wedgeRoundRectCallout">
            <a:avLst>
              <a:gd name="adj1" fmla="val -80134"/>
              <a:gd name="adj2" fmla="val 18393"/>
              <a:gd name="adj3" fmla="val 16667"/>
            </a:avLst>
          </a:prstGeom>
          <a:solidFill>
            <a:srgbClr val="ffffcc"/>
          </a:solidFill>
          <a:ln w="126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断片化が進んだ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テーブルに対して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既存ツールよりも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高速で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106200" y="5013360"/>
          <a:ext cx="2089440" cy="1098360"/>
        </p:xfrm>
        <a:graphic>
          <a:graphicData uri="http://schemas.openxmlformats.org/drawingml/2006/table">
            <a:tbl>
              <a:tblPr/>
              <a:tblGrid>
                <a:gridCol w="417600"/>
                <a:gridCol w="951120"/>
                <a:gridCol w="720720"/>
              </a:tblGrid>
              <a:tr h="549360"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usterd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4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5050"/>
                          </a:solidFill>
                          <a:latin typeface="Arial"/>
                        </a:rPr>
                        <a:t>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g_reor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  <p:sp>
        <p:nvSpPr>
          <p:cNvPr id="157" name=""/>
          <p:cNvSpPr/>
          <p:nvPr/>
        </p:nvSpPr>
        <p:spPr>
          <a:xfrm>
            <a:off x="6300720" y="4437000"/>
            <a:ext cx="2592360" cy="18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pg_reorg 1.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PostgreSQL 8.3.3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対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(2008-09-2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6T11:52:56Z</dcterms:created>
  <dc:creator> </dc:creator>
  <dc:description/>
  <dc:language>en-US</dc:language>
  <cp:lastModifiedBy>itagaki</cp:lastModifiedBy>
  <dcterms:modified xsi:type="dcterms:W3CDTF">2008-11-25T07:01:26Z</dcterms:modified>
  <cp:revision>761</cp:revision>
  <dc:subject/>
  <dc:title>OSS故障解析はここまでできる</dc:title>
</cp:coreProperties>
</file>